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D97-E7A9-4952-A6DB-827CA46D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83B-CE4C-490B-A95F-18FC65A7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799-B8CF-4852-A189-48F40F17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0CB-6C47-4721-89ED-CC8F80A8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8665-129C-4199-BFE3-493856B2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575E-6A9C-4F2F-B65C-6023CC2D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A044-F76B-4240-93DF-86624E2F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A496-62D8-43E0-AAD0-89E6F829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8701-5C6E-4E3B-B084-3DF9196B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4AA2-4AF0-4EF7-BC48-6BC7E5E1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4095-BAD5-47FA-BC08-A312EF6E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1B7-0F82-457E-8B64-C9BE3906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5CBF-272C-4B4F-BA82-811A8322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3F5C-880C-4A73-A809-717D8B4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A31B-5257-47F1-A556-7BCC5C0E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D2AA-9EC0-4C26-B0FF-FFA2E4B5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CF77-58A8-4AD3-85C8-40215667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04F7-B039-4475-AB2A-994E9236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BBA1B-5E6B-4B09-BE7F-3F10B534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2975-7971-4D3E-BA05-0E275E9D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3368-B1C6-4C61-9833-D1CB185C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32CF-F29E-4FC1-984B-8461B9F4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E5B-52BF-4728-BC61-D364BC6D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6982E-214F-4932-B010-A394EADE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245E-3C98-4F1C-A108-243E606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9F27-5805-4342-9570-21596CE1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4311-EE76-4999-91A5-4A1A4E5B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849F-163E-4A64-8FFA-72688F67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27BB0-DA8C-4548-ABE6-666728E4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EEB0-75C5-4EA6-9E10-B001D133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C6362-9A45-4030-AB53-639A99DB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3B9D2-D287-41BA-AAD9-FCAD573D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0A47-8BE9-4CC1-B904-B9031435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DEE-F14E-4322-8852-E3F7B51A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9E2E-E7E9-4741-8B31-22FBEEE2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DAA11-FC02-4142-A0B6-436C8CD2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D99BF-675F-4D43-B809-A8F30718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87006-485C-4114-8A5F-8C8E41FE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AFDF-9107-4019-B7CE-56A02242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EE3F0-CD2D-4CAA-9D91-2945744F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1BC89-7621-4BA5-B6A0-4D17218A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18195-1230-4F1B-8072-D9665D89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EB52-7C89-4A07-8D95-1FE5D893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E6266-2906-4A24-9682-BDCCFA10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AB0-AB90-4AE3-A0D9-E5B1F54D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8CBB5-B931-40A0-A1A3-CDCBFBEE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9FB1D-12BC-4A36-B757-B2022530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9813-B8D2-46AD-ABF8-7A37382D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6EE0-A7A0-4FCB-B1F9-CDB87489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EFCEB-071C-4438-88FF-F1D34A98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D4E37-D0FB-479E-B902-4AE5FDD4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8F461-372D-49B8-8444-858C1D51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EACE2-AE3A-41BE-A9B9-27E8BB3D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0152A-6D7E-419D-86A6-08482716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173A5-B629-4147-B8AE-DA369599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668-2E5C-4105-A4CB-1E31CD26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8FCB-ECB2-40D1-9D3E-0826ED8D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9C96-7650-4DDE-9828-5E8E94E6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AE482-AEAF-47C2-9EB6-C9C4D829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35273-E262-4E0A-9940-8E2FC681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233C8-2244-4371-9EA5-CE39D4AC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58999-07C3-4BDE-92B4-98BEB4B9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F1564-F0DC-4F1B-B43C-3E36E518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4F845-D074-42A0-B9BD-2EDC6374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21385-A05F-44B2-91D6-4AC6F2BF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DC08D-5EAE-4DD5-BE48-98CDE42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01B-A6F5-40F3-AB95-F26ECDF2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9B2E1-3C86-4025-9EF1-747F552D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18BA9-CD2F-4EB1-9014-E4E6E651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6B55F-09CE-4E27-AC4E-F9E98B35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2D1B1-88A3-4C98-AF50-230CFD0A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629AF-4A2F-4E0E-AD8E-7FC49927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09D17-3633-4350-8189-174E25C9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51D73-D8E0-4AEB-BCFC-465CD280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DB147-19B6-4248-A254-04CC0CCA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80EE5-BBEB-446E-A0BA-DD23AEE9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A6A83-5CE3-4C74-85A5-7C99F341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D993-9308-4090-A457-A0456AD6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FF210-20C2-4B5C-ADF0-7A8E59E1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FFBEF-63D3-4F8C-A4B0-4BB41BBE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7AF9B-041C-4109-9769-BDEFAEFA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1613D-E49C-4E97-B630-C229F05A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06FA0-B63F-42DC-B05A-EA0343FF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1B88D-1D01-4ECF-9C1A-43FB565B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22816-4CE8-4C91-8B51-A6F749F0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1F138-F498-40D8-84A7-4A17EB84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5E4A3-CB47-477D-9DF1-A4072B26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7E199-3D89-4560-BAEB-51EE9C51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60E-E118-4153-9D6A-5A43282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70774-6984-4F0F-A75A-EE320650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E0BE9-1C95-4DF4-A31A-0D545847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B0594-B717-485D-A74E-F4F794B0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1F5F6-6AE4-41DC-B917-1084790C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15394-B2BC-4724-A8CF-B42BA5E7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97C66-11FD-4D63-9589-07C978A6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A08BA-A8EA-418B-A23F-A9125394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030a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BF87-AA46-4A93-B573-F21A74BBB74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7030a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030a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CFB1-42BA-4F05-9211-86DE7442792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b0f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4D2B-7237-4C8A-BDDF-2E84A382953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b0f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845E-2AFB-4B1E-AD69-1C4F0783AF8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030a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02D2-163F-423A-80BC-22D53422A32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b0f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CF6B-7A9B-4098-B8E8-A9DA591D713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030a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B6F7-6E93-42B5-8D13-9F18E5D89CA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b0f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b0f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b0f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3DCC-E78A-4BD4-BE09-90F7C40BCFD1}" type="slidenum">
              <a:rPr b="0" lang="en-US" sz="1000" spc="-1" strike="noStrike">
                <a:solidFill>
                  <a:srgbClr val="00b0f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By: </a:t>
            </a:r>
            <a:r>
              <a:rPr b="0" lang="en-US" sz="2700" spc="-1" strike="noStrike">
                <a:solidFill>
                  <a:srgbClr val="37ff92"/>
                </a:solidFill>
                <a:latin typeface="Lucida Sans Unicode"/>
              </a:rPr>
              <a:t>Abby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Tanner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and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lly!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72" name="Picture 3" descr="imagesCALMP0HT.jpg"/>
          <p:cNvPicPr/>
          <p:nvPr/>
        </p:nvPicPr>
        <p:blipFill>
          <a:blip r:embed="rId2"/>
          <a:stretch/>
        </p:blipFill>
        <p:spPr>
          <a:xfrm rot="20416200">
            <a:off x="304920" y="615600"/>
            <a:ext cx="408276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48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7030a0"/>
                </a:solidFill>
                <a:latin typeface="Lucida Sans Unicode"/>
              </a:rPr>
              <a:t>As </a:t>
            </a:r>
            <a:r>
              <a:rPr b="1" lang="en-CA" sz="3200" spc="-1" strike="noStrike" u="sng">
                <a:solidFill>
                  <a:srgbClr val="37ff92"/>
                </a:solidFill>
                <a:uFillTx/>
                <a:latin typeface="Lucida Sans Unicode"/>
              </a:rPr>
              <a:t>materials warm up</a:t>
            </a:r>
            <a:r>
              <a:rPr b="0" lang="en-CA" sz="32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3200" spc="-1" strike="noStrike">
                <a:solidFill>
                  <a:srgbClr val="7030a0"/>
                </a:solidFill>
                <a:latin typeface="Lucida Sans Unicode"/>
              </a:rPr>
              <a:t>their particles move faster and </a:t>
            </a:r>
            <a:r>
              <a:rPr b="1" lang="en-CA" sz="3200" spc="-1" strike="noStrike" u="sng">
                <a:solidFill>
                  <a:srgbClr val="37ff92"/>
                </a:solidFill>
                <a:uFillTx/>
                <a:latin typeface="Lucida Sans Unicode"/>
              </a:rPr>
              <a:t>spread further apart</a:t>
            </a:r>
            <a:r>
              <a:rPr b="0" lang="en-CA" sz="3200" spc="-1" strike="noStrike">
                <a:solidFill>
                  <a:srgbClr val="7030a0"/>
                </a:solidFill>
                <a:latin typeface="Lucida Sans Unicode"/>
              </a:rPr>
              <a:t>. </a:t>
            </a:r>
            <a:endParaRPr b="0" lang="en-US" sz="32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7030a0"/>
                </a:solidFill>
                <a:latin typeface="Lucida Sans Unicode"/>
              </a:rPr>
              <a:t>Substances expand </a:t>
            </a:r>
            <a:r>
              <a:rPr b="0" lang="en-CA" sz="3200" spc="-1" strike="noStrike">
                <a:solidFill>
                  <a:srgbClr val="37ff92"/>
                </a:solidFill>
                <a:latin typeface="Lucida Sans Unicode"/>
              </a:rPr>
              <a:t>(</a:t>
            </a:r>
            <a:r>
              <a:rPr b="1" lang="en-CA" sz="3200" spc="-1" strike="noStrike" u="sng">
                <a:solidFill>
                  <a:srgbClr val="37ff92"/>
                </a:solidFill>
                <a:uFillTx/>
                <a:latin typeface="Lucida Sans Unicode"/>
              </a:rPr>
              <a:t>increase in volume</a:t>
            </a:r>
            <a:r>
              <a:rPr b="0" lang="en-CA" sz="3200" spc="-1" strike="noStrike">
                <a:solidFill>
                  <a:srgbClr val="37ff92"/>
                </a:solidFill>
                <a:latin typeface="Lucida Sans Unicode"/>
              </a:rPr>
              <a:t>) </a:t>
            </a:r>
            <a:r>
              <a:rPr b="0" lang="en-CA" sz="3200" spc="-1" strike="noStrike">
                <a:solidFill>
                  <a:srgbClr val="7030a0"/>
                </a:solidFill>
                <a:latin typeface="Lucida Sans Unicode"/>
              </a:rPr>
              <a:t>as their temperature rises.</a:t>
            </a:r>
            <a:endParaRPr b="0" lang="en-US" sz="32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1528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jdjdgh.jpg"/>
          <p:cNvPicPr/>
          <p:nvPr/>
        </p:nvPicPr>
        <p:blipFill>
          <a:blip r:embed="rId2"/>
          <a:stretch/>
        </p:blipFill>
        <p:spPr>
          <a:xfrm>
            <a:off x="5724360" y="3573360"/>
            <a:ext cx="29592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Falling temperature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means that average particle motion is </a:t>
            </a: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slowing down</a:t>
            </a: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.  This normally results in a decrease in volume 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(</a:t>
            </a: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contracts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).</a:t>
            </a:r>
            <a:r>
              <a:rPr b="0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 </a:t>
            </a: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Pure substances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are made up of only </a:t>
            </a:r>
            <a:r>
              <a:rPr b="0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one type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of particle. They can exist as a solid, liquid, or gas.</a:t>
            </a: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Solids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-have a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definite shape and volume 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and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cannot be compressed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into a smaller space.</a:t>
            </a: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Liquids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– have a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definite volume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but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no fixed shape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and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cannot be compressed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Gases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– have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no definite shape or volume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.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They expand to fill all parts of their container and can easily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be compressed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into a smaller space.</a:t>
            </a: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353880" y="262080"/>
            <a:ext cx="84852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268280"/>
            <a:ext cx="8229600" cy="3456000"/>
          </a:xfrm>
          <a:prstGeom prst="rect">
            <a:avLst/>
          </a:prstGeom>
          <a:solidFill>
            <a:srgbClr val="00b0f0"/>
          </a:solidFill>
          <a:ln w="9360">
            <a:solidFill>
              <a:srgbClr val="37ff92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030a0"/>
                </a:solidFill>
                <a:latin typeface="Lucida Sans Unicode"/>
              </a:rPr>
              <a:t>Solids 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expand and contract depending on the </a:t>
            </a:r>
            <a:r>
              <a:rPr b="1" lang="en-CA" sz="2400" spc="-1" strike="noStrike" u="sng">
                <a:solidFill>
                  <a:srgbClr val="37ff92"/>
                </a:solidFill>
                <a:uFillTx/>
                <a:latin typeface="Lucida Sans Unicode"/>
              </a:rPr>
              <a:t>arrangement</a:t>
            </a:r>
            <a:r>
              <a:rPr b="0" lang="en-CA" sz="24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of particles in that particular substance. The </a:t>
            </a:r>
            <a:r>
              <a:rPr b="1" lang="en-CA" sz="2400" spc="-1" strike="noStrike" u="sng">
                <a:solidFill>
                  <a:srgbClr val="37ff92"/>
                </a:solidFill>
                <a:uFillTx/>
                <a:latin typeface="Lucida Sans Unicode"/>
              </a:rPr>
              <a:t>closer the particles</a:t>
            </a:r>
            <a:r>
              <a:rPr b="0" lang="en-CA" sz="24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are, the faster they expand or contract. When they </a:t>
            </a:r>
            <a:r>
              <a:rPr b="1" lang="en-CA" sz="2400" spc="-1" strike="noStrike" u="sng">
                <a:solidFill>
                  <a:srgbClr val="37ff92"/>
                </a:solidFill>
                <a:uFillTx/>
                <a:latin typeface="Lucida Sans Unicode"/>
              </a:rPr>
              <a:t>collide with another</a:t>
            </a:r>
            <a:r>
              <a:rPr b="0" lang="en-CA" sz="24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atom they pass along their </a:t>
            </a:r>
            <a:r>
              <a:rPr b="1" lang="en-CA" sz="2400" spc="-1" strike="noStrike" u="sng">
                <a:solidFill>
                  <a:srgbClr val="37ff92"/>
                </a:solidFill>
                <a:uFillTx/>
                <a:latin typeface="Lucida Sans Unicode"/>
              </a:rPr>
              <a:t>thermal energy</a:t>
            </a:r>
            <a:r>
              <a:rPr b="0" lang="en-CA" sz="2400" spc="-1" strike="noStrike">
                <a:solidFill>
                  <a:srgbClr val="37ff92"/>
                </a:solidFill>
                <a:latin typeface="Lucida Sans Unicode"/>
              </a:rPr>
              <a:t>. 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The closer the particles are together, the quicker they pass along their energy. </a:t>
            </a:r>
            <a:r>
              <a:rPr b="1" lang="en-CA" sz="2400" spc="-1" strike="noStrike" u="sng">
                <a:solidFill>
                  <a:srgbClr val="37ff92"/>
                </a:solidFill>
                <a:uFillTx/>
                <a:latin typeface="Lucida Sans Unicode"/>
              </a:rPr>
              <a:t>Dense solids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 heat up and cool down </a:t>
            </a:r>
            <a:r>
              <a:rPr b="1" lang="en-CA" sz="2400" spc="-1" strike="noStrike" u="sng">
                <a:solidFill>
                  <a:srgbClr val="37ff92"/>
                </a:solidFill>
                <a:uFillTx/>
                <a:latin typeface="Lucida Sans Unicode"/>
              </a:rPr>
              <a:t>quickly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 – Expand and Contract quickly.</a:t>
            </a:r>
            <a:endParaRPr b="0" lang="en-US" sz="2400" spc="-1" strike="noStrike">
              <a:solidFill>
                <a:srgbClr val="7030a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69800" y="450720"/>
            <a:ext cx="8229600" cy="12448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jkryukry.jpg"/>
          <p:cNvPicPr/>
          <p:nvPr/>
        </p:nvPicPr>
        <p:blipFill>
          <a:blip r:embed="rId2"/>
          <a:stretch/>
        </p:blipFill>
        <p:spPr>
          <a:xfrm>
            <a:off x="5148360" y="4292640"/>
            <a:ext cx="37274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50920" y="1412640"/>
            <a:ext cx="8686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 u="sng">
                <a:solidFill>
                  <a:srgbClr val="37ff92"/>
                </a:solidFill>
                <a:uFillTx/>
                <a:latin typeface="Lucida Sans Unicode"/>
              </a:rPr>
              <a:t>Gases </a:t>
            </a:r>
            <a:r>
              <a:rPr b="0" lang="en-CA" sz="3000" spc="-1" strike="noStrike">
                <a:solidFill>
                  <a:srgbClr val="7030a0"/>
                </a:solidFill>
                <a:latin typeface="Lucida Sans Unicode"/>
              </a:rPr>
              <a:t>expand and contract </a:t>
            </a:r>
            <a:r>
              <a:rPr b="0" lang="en-CA" sz="30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1" lang="en-CA" sz="3000" spc="-1" strike="noStrike" u="sng">
                <a:solidFill>
                  <a:srgbClr val="37ff92"/>
                </a:solidFill>
                <a:uFillTx/>
                <a:latin typeface="Lucida Sans Unicode"/>
              </a:rPr>
              <a:t>slower</a:t>
            </a:r>
            <a:r>
              <a:rPr b="0" lang="en-CA" sz="30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3000" spc="-1" strike="noStrike">
                <a:solidFill>
                  <a:srgbClr val="7030a0"/>
                </a:solidFill>
                <a:latin typeface="Lucida Sans Unicode"/>
              </a:rPr>
              <a:t>than solids do because there is no fixed shape and volume. The </a:t>
            </a:r>
            <a:r>
              <a:rPr b="1" lang="en-CA" sz="3000" spc="-1" strike="noStrike" u="sng">
                <a:solidFill>
                  <a:srgbClr val="37ff92"/>
                </a:solidFill>
                <a:uFillTx/>
                <a:latin typeface="Lucida Sans Unicode"/>
              </a:rPr>
              <a:t>spaces between the particles</a:t>
            </a:r>
            <a:r>
              <a:rPr b="0" lang="en-CA" sz="30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3000" spc="-1" strike="noStrike">
                <a:solidFill>
                  <a:srgbClr val="7030a0"/>
                </a:solidFill>
                <a:latin typeface="Lucida Sans Unicode"/>
              </a:rPr>
              <a:t>are very </a:t>
            </a:r>
            <a:r>
              <a:rPr b="1" lang="en-CA" sz="3000" spc="-1" strike="noStrike" u="sng">
                <a:solidFill>
                  <a:srgbClr val="37ff92"/>
                </a:solidFill>
                <a:uFillTx/>
                <a:latin typeface="Lucida Sans Unicode"/>
              </a:rPr>
              <a:t>far apart</a:t>
            </a:r>
            <a:r>
              <a:rPr b="0" lang="en-CA" sz="30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3000" spc="-1" strike="noStrike">
                <a:solidFill>
                  <a:srgbClr val="7030a0"/>
                </a:solidFill>
                <a:latin typeface="Lucida Sans Unicode"/>
              </a:rPr>
              <a:t>compared to a solid and therefore they take a </a:t>
            </a:r>
            <a:r>
              <a:rPr b="1" lang="en-CA" sz="3000" spc="-1" strike="noStrike" u="sng">
                <a:solidFill>
                  <a:srgbClr val="37ff92"/>
                </a:solidFill>
                <a:uFillTx/>
                <a:latin typeface="Lucida Sans Unicode"/>
              </a:rPr>
              <a:t>long time to collide</a:t>
            </a:r>
            <a:r>
              <a:rPr b="0" lang="en-CA" sz="30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3000" spc="-1" strike="noStrike">
                <a:solidFill>
                  <a:srgbClr val="7030a0"/>
                </a:solidFill>
                <a:latin typeface="Lucida Sans Unicode"/>
              </a:rPr>
              <a:t>into another particle and pass along their </a:t>
            </a:r>
            <a:r>
              <a:rPr b="1" lang="en-CA" sz="3000" spc="-1" strike="noStrike" u="sng">
                <a:solidFill>
                  <a:srgbClr val="37ff92"/>
                </a:solidFill>
                <a:uFillTx/>
                <a:latin typeface="Lucida Sans Unicode"/>
              </a:rPr>
              <a:t>thermal energy</a:t>
            </a:r>
            <a:r>
              <a:rPr b="0" lang="en-CA" sz="30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3000" spc="-1" strike="noStrike">
                <a:solidFill>
                  <a:srgbClr val="7030a0"/>
                </a:solidFill>
                <a:latin typeface="Lucida Sans Unicode"/>
              </a:rPr>
              <a:t>to the next particle. </a:t>
            </a:r>
            <a:endParaRPr b="0" lang="en-US" sz="3000" spc="-1" strike="noStrike">
              <a:solidFill>
                <a:srgbClr val="7030a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396720" y="420840"/>
            <a:ext cx="8399520" cy="1195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yhyetyjh.jpg"/>
          <p:cNvPicPr/>
          <p:nvPr/>
        </p:nvPicPr>
        <p:blipFill>
          <a:blip r:embed="rId2"/>
          <a:stretch/>
        </p:blipFill>
        <p:spPr>
          <a:xfrm>
            <a:off x="5288040" y="4076640"/>
            <a:ext cx="3506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68360" y="1052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Liquids </a:t>
            </a: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expand and contract with </a:t>
            </a: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changes in thermal energy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depending on the space between the particles 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(</a:t>
            </a: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density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) </a:t>
            </a: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in a particular substance. This is why thermometers are made with only </a:t>
            </a: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certain kinds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of liquids to measure in a laboratory 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(</a:t>
            </a: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Mercury or Alcohol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).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91320" cy="1268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6300720" y="3789360"/>
            <a:ext cx="2232000" cy="286380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90" name="Picture 5" descr="hjhghjgdh.jpg"/>
          <p:cNvPicPr/>
          <p:nvPr/>
        </p:nvPicPr>
        <p:blipFill>
          <a:blip r:embed="rId3"/>
          <a:stretch/>
        </p:blipFill>
        <p:spPr>
          <a:xfrm>
            <a:off x="2050920" y="4076640"/>
            <a:ext cx="34578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20:04:21Z</dcterms:created>
  <dc:creator>Administrator</dc:creator>
  <dc:description/>
  <dc:language>en-US</dc:language>
  <cp:lastModifiedBy>Kidd</cp:lastModifiedBy>
  <dcterms:modified xsi:type="dcterms:W3CDTF">2012-02-28T23:50:28Z</dcterms:modified>
  <cp:revision>3</cp:revision>
  <dc:subject/>
  <dc:title>Unit 3, Topic 4!</dc:title>
</cp:coreProperties>
</file>